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6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74E4-D907-4F1A-B45C-F6940182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8B42-04E8-4D8E-BE38-074A41E3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35C-F21A-4617-9B3A-E6C8BF29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731-65CB-4214-B792-6B568657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02CCE-3917-4CCF-A48E-85C45331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0A7DA-4F6A-4068-9638-A9D52800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4B447-4964-4EC7-8926-8BCF0F81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FCAD3-00F0-4764-B3F2-6156808D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8B4FB-2293-422B-BB34-9B2C7854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2F588-BAA9-454B-94AB-AD3A0869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DD3BC-8CFF-4A29-991B-DBD4BE86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ED2D-DC75-4712-AD83-D6EDA8DD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7360F-B886-4A38-84E2-B9608F87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2ED80-443B-4F58-8370-06F430E7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27808-59B1-4C1C-B367-3FD364A5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665A8-FB65-4844-9317-B652A563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D5CA9-B94F-40DB-BD89-3255348B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536-EA3A-4357-B371-7330640A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BBD-3FC4-4315-BF08-F9E5B2D5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59A-8C1F-4500-856F-B70F3398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7F31-C394-46A4-B84F-0404BF6D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B74-22CB-45BB-BCFE-950E4337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D2FE-A055-421C-ACA1-601E340E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0434-0930-486D-AAFD-ECA043E6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FDE7-CFE3-49FD-93F2-4FC54E15B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1743-34B4-47BD-A573-871C6719D3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10"/>
          <p:cNvSpPr txBox="1"/>
          <p:nvPr/>
        </p:nvSpPr>
        <p:spPr>
          <a:xfrm>
            <a:off x="3564000" y="4653000"/>
            <a:ext cx="4572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甘肃省理工中等专业学校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4" name="WordArt 11" descr=""/>
          <p:cNvPicPr/>
          <p:nvPr/>
        </p:nvPicPr>
        <p:blipFill>
          <a:blip r:embed="rId2"/>
          <a:stretch/>
        </p:blipFill>
        <p:spPr>
          <a:xfrm>
            <a:off x="6010200" y="5224320"/>
            <a:ext cx="2097000" cy="487440"/>
          </a:xfrm>
          <a:prstGeom prst="rect">
            <a:avLst/>
          </a:prstGeom>
          <a:ln w="0">
            <a:noFill/>
          </a:ln>
        </p:spPr>
      </p:pic>
      <p:sp>
        <p:nvSpPr>
          <p:cNvPr id="85" name="WordArt 12"/>
          <p:cNvSpPr txBox="1"/>
          <p:nvPr/>
        </p:nvSpPr>
        <p:spPr>
          <a:xfrm>
            <a:off x="1979640" y="765000"/>
            <a:ext cx="568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校园安全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WordArt 13"/>
          <p:cNvSpPr txBox="1"/>
          <p:nvPr/>
        </p:nvSpPr>
        <p:spPr>
          <a:xfrm>
            <a:off x="2195640" y="2565360"/>
            <a:ext cx="4609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从我做起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684360" y="2548800"/>
            <a:ext cx="72007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c600"/>
                </a:solidFill>
                <a:latin typeface="Arial"/>
              </a:rPr>
              <a:t>、日常行为安全：不携带刀具、火种或其它危险品进入校园；严禁勾结校外人员来校滋事、打架；不进网吧、游戏室等娱乐场所；不在楼梯、走廊上追逐打闹、推撞；上下楼梯靠右行，不拥挤、不抢行；严禁攀爬围墙、栏杆及大树。周五放学后，严禁坐摩的回家，与陌生人交谈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39640" y="423720"/>
            <a:ext cx="410364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制定安全措施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11280" y="4934880"/>
            <a:ext cx="69850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c600"/>
                </a:solidFill>
                <a:latin typeface="Arial"/>
              </a:rPr>
              <a:t>、体育课安全：上体育课时，要有防范意识，不随意投掷器材。严禁下雨天打篮球或踢足球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7150"/>
                            </p:stCondLst>
                            <p:childTnLst>
                              <p:par>
                                <p:cTn id="1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95280" y="2255040"/>
            <a:ext cx="8064360" cy="131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6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c600"/>
                </a:solidFill>
                <a:latin typeface="Arial"/>
              </a:rPr>
              <a:t>、集体活动安全：班级、年级、学校组织的户外活动，要严格遵守活动纪律，听从老师的指挥，身体有不舒服的要及时告知老师或身边的同学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6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c600"/>
                </a:solidFill>
                <a:latin typeface="Arial"/>
              </a:rPr>
              <a:t>、心理健康安全：积极疏导化解学生心理问题，同学之间关心关照，适时向他人倾诉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8"/>
          <p:cNvSpPr/>
          <p:nvPr/>
        </p:nvSpPr>
        <p:spPr>
          <a:xfrm>
            <a:off x="2195640" y="836640"/>
            <a:ext cx="633708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1296d"/>
                </a:solidFill>
                <a:latin typeface="Arial"/>
              </a:rPr>
              <a:t>大家已经学习了那么多安全知识了，下面来考考大家对安全知识的掌握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611280" y="1799640"/>
            <a:ext cx="8137440" cy="3993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选择题：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  （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）同学之间发生小摩擦时，下列处理方法正确的是（        ）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   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原谅同学或报告老师，让老师处理。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   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记恨在心，事后叫人一起教训对方。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   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据情节给予报复。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   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、叫家长到学校来教训对方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916360" y="2565360"/>
            <a:ext cx="143964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3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900000" y="1341360"/>
            <a:ext cx="7632720" cy="3080160"/>
          </a:xfrm>
          <a:prstGeom prst="rect">
            <a:avLst/>
          </a:prstGeom>
          <a:noFill/>
          <a:ln w="44280">
            <a:solidFill>
              <a:srgbClr val="ffcccc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）在预防饮食安全方面做的不妥当的是（       ）</a:t>
            </a:r>
            <a:br>
              <a:rPr sz="2800"/>
            </a:b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    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、购买包装食品时，要查看有无生产日期，保质期，生产单位。</a:t>
            </a:r>
            <a:br>
              <a:rPr sz="2800"/>
            </a:b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    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、餐具要卫生，要有自己的专用餐具。</a:t>
            </a:r>
            <a:br>
              <a:rPr sz="2800"/>
            </a:b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    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、在外就餐时，选择较为便宜的，无证无照的“路边摊”。</a:t>
            </a:r>
            <a:br>
              <a:rPr sz="2800"/>
            </a:b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    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、养成良好的个人卫生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971640" y="1773360"/>
            <a:ext cx="143964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1532520" y="585720"/>
            <a:ext cx="3640320" cy="4786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）遇到别人打架时（        ）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上前围观，给自己认识的人加油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帮忙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不管他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去劝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告诉老师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780000" y="668160"/>
            <a:ext cx="15127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2419920" y="1003680"/>
            <a:ext cx="4421520" cy="2837160"/>
          </a:xfrm>
          <a:prstGeom prst="rect">
            <a:avLst/>
          </a:prstGeom>
          <a:noFill/>
          <a:ln w="38160">
            <a:solidFill>
              <a:srgbClr val="ff99cc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）遇到火灾时，拨打（    ）</a:t>
            </a:r>
            <a:br>
              <a:rPr sz="3600"/>
            </a:b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10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19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20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2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364440" y="1033560"/>
            <a:ext cx="136836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2970000" y="761400"/>
            <a:ext cx="3062520" cy="33858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）在道路上行走时（       ）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和同学边走边打闹</a:t>
            </a:r>
            <a:br>
              <a:rPr sz="2400"/>
            </a:b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要走人行道，没有人行道的道路，要靠路边走</a:t>
            </a:r>
            <a:br>
              <a:rPr sz="2400"/>
            </a:b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行走时东张西望，边走边看书或做其他事情。</a:t>
            </a:r>
            <a:br>
              <a:rPr sz="2400"/>
            </a:b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为赶时间与机动车辆抢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140360" y="749160"/>
            <a:ext cx="122364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2361960" y="1605600"/>
            <a:ext cx="4059360" cy="35067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判断题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）使用刀具时，互相比划、打闹。            （     ）</a:t>
            </a:r>
            <a:br>
              <a:rPr sz="2800"/>
            </a:b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）用湿手触摸电器，用湿布擦试电器。     （     ）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）用手或金属制品去接触插头底部。         （     ）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）站在凳子上往阳台下看。                       （      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7683120" y="1989000"/>
            <a:ext cx="4183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7683120" y="2852640"/>
            <a:ext cx="4183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7683120" y="3716280"/>
            <a:ext cx="4183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7611480" y="4581360"/>
            <a:ext cx="4183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9298670_201655283156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讨论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5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1.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谈谈自己对班会的切身感受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班主任的万千叮咛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700360" y="40464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《</a:t>
            </a:r>
            <a:r>
              <a:rPr b="1" lang="zh-CN" sz="4000" spc="-1" strike="noStrike">
                <a:solidFill>
                  <a:srgbClr val="010199"/>
                </a:solidFill>
                <a:latin typeface="Tahoma"/>
              </a:rPr>
              <a:t>生命颂</a:t>
            </a:r>
            <a:r>
              <a:rPr b="1" lang="en-US" sz="4000" spc="-1" strike="noStrike">
                <a:solidFill>
                  <a:srgbClr val="010199"/>
                </a:solidFill>
                <a:latin typeface="Tahoma"/>
              </a:rPr>
              <a:t>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39640" y="1268280"/>
            <a:ext cx="813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生命是宝贵的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但很多人却没有善待生命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生命是什么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有人说生命是出生的无知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少年的纯真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青年的成熟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中年的练达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老年的愤世嫉俗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生命可能绚丽，也可能平淡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但是能安全的生活在世上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享有生的权利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199"/>
                </a:solidFill>
                <a:latin typeface="Tahoma"/>
              </a:rPr>
              <a:t>就是对生命的善待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9298670_201655283156_2"/>
          <p:cNvPicPr/>
          <p:nvPr/>
        </p:nvPicPr>
        <p:blipFill>
          <a:blip r:embed="rId2"/>
          <a:stretch/>
        </p:blipFill>
        <p:spPr>
          <a:xfrm>
            <a:off x="0" y="0"/>
            <a:ext cx="8964720" cy="6724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最后，希望通过这次安全教育班会，在全班形成一个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人人关心校园安全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ff0066"/>
                </a:solidFill>
                <a:latin typeface="Tahoma"/>
              </a:rPr>
              <a:t>的浓厚氛围。同学们，生命是美好的，生活是多姿多彩的，而要拥有这一切的前提是安全。所以我们一定要时刻加强安全意识，努力增强自我防范能力，做到警钟长鸣！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611280" y="1341360"/>
            <a:ext cx="7848360" cy="3933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校园安全你都了解了吗  安全知识记在心上了吗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活的路总有一些危险事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请你一定要警惕注意安全过得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路口的指示灯你看清楚了吗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紧急疏散的路你都记住了吗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人生自古总有许多突发事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请你多做些防范快乐多与烦恼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祝你平安  祝你平安  安全知识一定要常记心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祝你平安  祝你平安  你永远都平安是我最大的心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050920" y="476280"/>
            <a:ext cx="4248360" cy="764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600"/>
                </a:solidFill>
                <a:latin typeface="Arial"/>
                <a:ea typeface="方正姚体"/>
              </a:rPr>
              <a:t>祝你平安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谭炎健-祝你平安.mp3" descr=""/>
          <p:cNvPicPr/>
          <p:nvPr/>
        </p:nvPicPr>
        <p:blipFill>
          <a:blip r:embed="rId2"/>
          <a:stretch/>
        </p:blipFill>
        <p:spPr>
          <a:xfrm>
            <a:off x="579600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240476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9298670_201655283156_2"/>
          <p:cNvPicPr/>
          <p:nvPr/>
        </p:nvPicPr>
        <p:blipFill>
          <a:blip r:embed="rId2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135" name="WordArt 7"/>
          <p:cNvSpPr txBox="1"/>
          <p:nvPr/>
        </p:nvSpPr>
        <p:spPr>
          <a:xfrm>
            <a:off x="2050920" y="1268280"/>
            <a:ext cx="531972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大家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826920" y="476280"/>
            <a:ext cx="504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5840">
                  <a:solidFill>
                    <a:srgbClr val="ff9900"/>
                  </a:solidFill>
                  <a:prstDash val="sysDot"/>
                  <a:miter/>
                </a:ln>
                <a:solidFill>
                  <a:srgbClr val="3399ff"/>
                </a:solidFill>
                <a:latin typeface="宋体"/>
              </a:rPr>
              <a:t>请结合视频，</a:t>
            </a:r>
            <a:endParaRPr b="1" lang="en-US" sz="2400" spc="1" strike="noStrike">
              <a:ln w="15840">
                <a:solidFill>
                  <a:srgbClr val="ff9900"/>
                </a:solidFill>
                <a:prstDash val="sysDot"/>
                <a:miter/>
              </a:ln>
              <a:solidFill>
                <a:srgbClr val="3399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5840">
                  <a:solidFill>
                    <a:srgbClr val="ff9900"/>
                  </a:solidFill>
                  <a:prstDash val="sysDot"/>
                  <a:miter/>
                </a:ln>
                <a:solidFill>
                  <a:srgbClr val="3399ff"/>
                </a:solidFill>
                <a:latin typeface="宋体"/>
              </a:rPr>
              <a:t>谈谈你有什么感受</a:t>
            </a:r>
            <a:endParaRPr b="1" lang="en-US" sz="2400" spc="1" strike="noStrike">
              <a:ln w="15840">
                <a:solidFill>
                  <a:srgbClr val="ff9900"/>
                </a:solidFill>
                <a:prstDash val="sysDot"/>
                <a:miter/>
              </a:ln>
              <a:solidFill>
                <a:srgbClr val="3399ff"/>
              </a:solidFill>
              <a:latin typeface="宋体"/>
              <a:ea typeface="宋体"/>
            </a:endParaRPr>
          </a:p>
        </p:txBody>
      </p:sp>
      <p:pic>
        <p:nvPicPr>
          <p:cNvPr id="90" name="湖南一中学发生踩踏事故８学生死亡_标清.avi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749016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9298670_201655283156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讨论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990000"/>
                </a:solidFill>
                <a:latin typeface="Tahoma"/>
              </a:rPr>
              <a:t>谈谈看完视频后大家的感受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990000"/>
                </a:solidFill>
                <a:latin typeface="Tahoma"/>
              </a:rPr>
              <a:t>大家觉得自己身边的校园安全隐患还有哪些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3203640" y="476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安全顺口溜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11280" y="1268280"/>
            <a:ext cx="8281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ahoma"/>
              </a:rPr>
              <a:t>上课小腿莫伸长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ahoma"/>
              </a:rPr>
              <a:t>走廊狭窄不疯狂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ahoma"/>
              </a:rPr>
              <a:t>上下楼梯靠右走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ahoma"/>
              </a:rPr>
              <a:t>危险游戏一扫光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ahoma"/>
              </a:rPr>
              <a:t>同学之间有磨擦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ahoma"/>
              </a:rPr>
              <a:t>宽容谦让是良方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611280" y="476280"/>
            <a:ext cx="30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行为诊断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WordArt 8"/>
          <p:cNvSpPr txBox="1"/>
          <p:nvPr/>
        </p:nvSpPr>
        <p:spPr>
          <a:xfrm>
            <a:off x="2114640" y="2494080"/>
            <a:ext cx="491472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上课时分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611280" y="6922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行为诊断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WordArt 4"/>
          <p:cNvSpPr txBox="1"/>
          <p:nvPr/>
        </p:nvSpPr>
        <p:spPr>
          <a:xfrm>
            <a:off x="2114640" y="2494080"/>
            <a:ext cx="4914720" cy="186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间时分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684360" y="765000"/>
            <a:ext cx="31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行为诊断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11280" y="1844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2114640" y="2819520"/>
            <a:ext cx="54817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劳动时分</a:t>
            </a:r>
            <a:endParaRPr b="1" lang="en-US" sz="9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9298670_201655283156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讨论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990000"/>
                </a:solidFill>
                <a:latin typeface="Tahoma"/>
              </a:rPr>
              <a:t>同学们从上面三则小品中看到有哪些安全隐患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990000"/>
                </a:solidFill>
                <a:latin typeface="Tahoma"/>
              </a:rPr>
              <a:t>大家一起制定校园安全防范措施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6:16:16Z</dcterms:created>
  <dc:creator>微软用户</dc:creator>
  <dc:description/>
  <dc:language>en-US</dc:language>
  <cp:lastModifiedBy>USER</cp:lastModifiedBy>
  <dcterms:modified xsi:type="dcterms:W3CDTF">2014-04-16T01:15:53Z</dcterms:modified>
  <cp:revision>76</cp:revision>
  <dc:subject/>
  <dc:title>幻灯片 1</dc:title>
</cp:coreProperties>
</file>