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5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41D5-BA71-40E5-984D-9DE0F574D5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D2CD-358F-48DC-9980-F54D8CA3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931-59DC-402C-B5DD-430C0A4A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4A9-829F-404A-ACFE-077F2878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7A7B-2A7E-46FE-BBF8-53D32E68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23C-CB46-4F41-95AE-23FEDDA2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DAC-6EED-4BC4-84F1-FA63F811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609-4D21-4FFE-BA5D-97764B38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A57-EA94-4D93-AAAF-158F6FA0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B43-6B08-43EE-8E95-559E1F52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59B-EE32-4093-8CFD-F52B503C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E88B-DB97-4DC7-BD80-6C58CDD1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CA0-1363-4F39-8DDD-19F74549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51F9-A7B1-4840-AD8F-3DBC7A3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4AB6-E4FF-4DE0-A119-C0B856D67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 rot="311400">
            <a:off x="5866920" y="1628640"/>
            <a:ext cx="459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1"/>
          <p:cNvSpPr/>
          <p:nvPr/>
        </p:nvSpPr>
        <p:spPr>
          <a:xfrm>
            <a:off x="5487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36"/>
          <p:cNvSpPr txBox="1"/>
          <p:nvPr/>
        </p:nvSpPr>
        <p:spPr>
          <a:xfrm>
            <a:off x="762120" y="2743200"/>
            <a:ext cx="7848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换位思考，律己宽人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Text Box 37"/>
          <p:cNvSpPr/>
          <p:nvPr/>
        </p:nvSpPr>
        <p:spPr>
          <a:xfrm>
            <a:off x="6248520" y="4903920"/>
            <a:ext cx="2743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辆工程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2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8"/>
          <p:cNvSpPr/>
          <p:nvPr/>
        </p:nvSpPr>
        <p:spPr>
          <a:xfrm>
            <a:off x="611280" y="609480"/>
            <a:ext cx="601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主题班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8035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故事一：《猪、牛、羊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23880"/>
            <a:ext cx="83059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头猪、一只绵羊和一头奶牛，被牧人关在同一个畜栏里。有一天，牧人将猪从畜栏里捉了出去，只听猪大声号叫，强烈地反抗。绵羊和奶牛讨厌它的号叫，于是抱怨道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经常被牧人捉去，都没像你这样大呼小叫的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猪听了回应道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捉你们和捉我完全是两回事，他捉你们，只是要你们的毛和乳汁，但是捉住我，却是要我的命啊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33520" y="1394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完了这个故事同学们，你们感悟到了什么？请谈谈自己的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52280" y="3035160"/>
            <a:ext cx="8761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立场不同，所处环境不同的人，是很难了解对方的感受的。因此，对他人的失意、挫折和伤痛，我们应进行换位思考，以一颗宽容的心去了解，关心他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066680" y="7542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故事二：《你是你、我是我、你不是我、我不是你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7200" y="1905120"/>
            <a:ext cx="8686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你是你，我是我，你不是我，我不是你，但你把我当成你，我把你当成我，这样就换了位，再思考一下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一对夫妇坐车去游山，半途中下车。听说后来车上其余的乘客没有走多远，就遇到了小山崩塌，结果全部丧命。女人说：咱们真幸运，下车下的及时。男人说：不，是由于咱们的下车，车子停留，耽误了他们的行程。不然，就不会在哪个时刻恰巧经过山崩的地点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533520" y="5385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听完了这个故事同学们，你们感悟到了什么？请谈谈自己的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1905120"/>
            <a:ext cx="822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换位思考的实质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就是设身处地为他人着想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即想人所想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理解至上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人与人之间少不了谅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谅解是理解的一个方面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也是一种宽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我们都有被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冒犯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,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误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的时候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如果对此耿耿于怀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心中就会有解不开的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疙瘩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";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如果我们能深入体察对方的内心世界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或许能达成谅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般说来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只要不涉及原则性问题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都是可以谅解的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谅解是一种爱护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体贴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宽容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一种理解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609480" y="1600200"/>
            <a:ext cx="82296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总结：生活中，人与人之间的交往，需要我们坦诚相待，更需要我们换位思考，以为人与人之间，只有不断换位思考才会相互尊重，也只有不断地换位思考，才会获得更多的尊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228600" y="761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宋体"/>
              </a:rPr>
              <a:t>班会环节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9807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小品剧表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72388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一、小品扮演，深入理解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3474720"/>
            <a:ext cx="52578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角色：四名同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09480" y="2286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小品一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GungsuhChe"/>
              </a:rPr>
              <a:t>充电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风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-360" y="456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讨论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生以小组为单位展开讨论，每组挑选出一位记录员将组内成员的发言写在纸张上，并派一位代表陈述本组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小品二：</a:t>
            </a:r>
            <a:r>
              <a:rPr b="1" lang="zh-CN" sz="4400" spc="-1" strike="noStrike">
                <a:solidFill>
                  <a:srgbClr val="0000ff"/>
                </a:solidFill>
                <a:latin typeface="Berlin Sans FB"/>
                <a:ea typeface="楷体_GB2312"/>
              </a:rPr>
              <a:t>谎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风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25905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角色：三名同学 、一位家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道具：啤酒、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68580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讨论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生以小组为单位展开讨论，每组挑选出一位记录员将组内成员的发言写在纸张上，并派一位代表陈述本组意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0570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一、图片导入，引出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二、小故事会，蕴含大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三、小品扮演，深入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    </a:t>
            </a:r>
            <a:r>
              <a:rPr b="1" lang="zh-CN" sz="4400" spc="-1" strike="noStrike">
                <a:solidFill>
                  <a:srgbClr val="002060"/>
                </a:solidFill>
                <a:latin typeface="Arial"/>
                <a:ea typeface="宋体"/>
              </a:rPr>
              <a:t>四、换位思考，沟通你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600200" y="533520"/>
            <a:ext cx="3657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"/>
                <a:ea typeface="楷体"/>
              </a:rPr>
              <a:t>班会环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19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55640" y="47628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436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87280" y="105264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414240" y="1143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宋体 Std L"/>
              </a:rPr>
              <a:t>小品总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816200" y="625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33548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9584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5487840" y="127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642456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784920" y="1130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9"/>
          <p:cNvSpPr/>
          <p:nvPr/>
        </p:nvSpPr>
        <p:spPr>
          <a:xfrm>
            <a:off x="457200" y="1905120"/>
            <a:ext cx="756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明白人与人之间发生矛盾，产生分歧是在所难免的，要正确对待和解决矛盾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建立全面的人生观，看问题多角度思考，善于站在别人的立场看问题，不能自私片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严格要求自己，宽容对待他人，生活中多一些互相的理解，做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dobe 楷体 Std R"/>
              </a:rPr>
              <a:t>心胸</a:t>
            </a:r>
            <a:r>
              <a:rPr b="1" lang="zh-CN" sz="2400" spc="-1" strike="noStrike">
                <a:solidFill>
                  <a:srgbClr val="000000"/>
                </a:solidFill>
                <a:latin typeface="Adobe 楷体 Std R"/>
                <a:ea typeface="Adobe 楷体 Std R"/>
              </a:rPr>
              <a:t>宽广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428760" y="3786120"/>
            <a:ext cx="576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dobe 仿宋 Std R"/>
                <a:ea typeface="Adobe 仿宋 Std R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animClr clrSpc="rgb">
                                      <p:cBhvr>
                                        <p:cTn id="2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  <p:set>
                                      <p:cBhvr>
                                        <p:cTn id="2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52640" y="8377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班会环节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8072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换位思考，沟通你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2009527049414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仿宋"/>
              </a:rPr>
              <a:t>如果你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一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孩子一回家就放下书包，直奔电脑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二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天很晚了，孩子说要跟朋友出去玩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如果你是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一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临近考试，自修时看到很多学生还在吵闹喧哗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Arial"/>
                <a:ea typeface="宋体"/>
              </a:rPr>
              <a:t>场景二：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课堂上，看到一些学生在下面吃零食、玩手机、看杂志，你会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华文行楷"/>
              </a:rPr>
              <a:t>因为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  <a:ea typeface="华文行楷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752480" y="228600"/>
            <a:ext cx="4397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角色互换，沟通彼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以同学们自己心理想法，展开两个讨论：首先用合作交流法，让学生大胆自然的来“晒晒自己经历的及其身边的事情”，然后通过生活身边的事来探究“换位思考的好处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6"/>
          <p:cNvGrpSpPr/>
          <p:nvPr/>
        </p:nvGrpSpPr>
        <p:grpSpPr>
          <a:xfrm>
            <a:off x="3492360" y="1773360"/>
            <a:ext cx="2361960" cy="2437920"/>
            <a:chOff x="3492360" y="1773360"/>
            <a:chExt cx="2361960" cy="2437920"/>
          </a:xfrm>
        </p:grpSpPr>
        <p:sp>
          <p:nvSpPr>
            <p:cNvPr id="115" name="Oval 7"/>
            <p:cNvSpPr/>
            <p:nvPr/>
          </p:nvSpPr>
          <p:spPr>
            <a:xfrm>
              <a:off x="3492360" y="1773360"/>
              <a:ext cx="2358000" cy="241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8"/>
            <p:cNvSpPr/>
            <p:nvPr/>
          </p:nvSpPr>
          <p:spPr>
            <a:xfrm>
              <a:off x="3496680" y="1793520"/>
              <a:ext cx="2357640" cy="241776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9"/>
            <p:cNvSpPr/>
            <p:nvPr/>
          </p:nvSpPr>
          <p:spPr>
            <a:xfrm>
              <a:off x="3622320" y="1931040"/>
              <a:ext cx="2046240" cy="210024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3615480" y="1919880"/>
              <a:ext cx="2046600" cy="210024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3723840" y="2037960"/>
              <a:ext cx="184284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12"/>
            <p:cNvGrpSpPr/>
            <p:nvPr/>
          </p:nvGrpSpPr>
          <p:grpSpPr>
            <a:xfrm>
              <a:off x="3764880" y="2066400"/>
              <a:ext cx="1786680" cy="1833480"/>
              <a:chOff x="3764880" y="2066400"/>
              <a:chExt cx="1786680" cy="1833480"/>
            </a:xfrm>
          </p:grpSpPr>
          <p:sp>
            <p:nvSpPr>
              <p:cNvPr id="121" name="Oval 13"/>
              <p:cNvSpPr/>
              <p:nvPr/>
            </p:nvSpPr>
            <p:spPr>
              <a:xfrm>
                <a:off x="3764880" y="2066400"/>
                <a:ext cx="178668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4"/>
              <p:cNvSpPr/>
              <p:nvPr/>
            </p:nvSpPr>
            <p:spPr>
              <a:xfrm>
                <a:off x="3787200" y="2076480"/>
                <a:ext cx="174384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5"/>
              <p:cNvSpPr/>
              <p:nvPr/>
            </p:nvSpPr>
            <p:spPr>
              <a:xfrm>
                <a:off x="3806280" y="2094120"/>
                <a:ext cx="165816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6"/>
              <p:cNvSpPr/>
              <p:nvPr/>
            </p:nvSpPr>
            <p:spPr>
              <a:xfrm>
                <a:off x="3903120" y="2140920"/>
                <a:ext cx="14738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Group 17"/>
          <p:cNvGrpSpPr/>
          <p:nvPr/>
        </p:nvGrpSpPr>
        <p:grpSpPr>
          <a:xfrm>
            <a:off x="2916360" y="2708280"/>
            <a:ext cx="3580560" cy="1904040"/>
            <a:chOff x="2916360" y="2708280"/>
            <a:chExt cx="3580560" cy="1904040"/>
          </a:xfrm>
        </p:grpSpPr>
        <p:sp>
          <p:nvSpPr>
            <p:cNvPr id="126" name="AutoShape 18"/>
            <p:cNvSpPr/>
            <p:nvPr/>
          </p:nvSpPr>
          <p:spPr>
            <a:xfrm rot="10800000">
              <a:off x="5887440" y="270828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9"/>
            <p:cNvSpPr/>
            <p:nvPr/>
          </p:nvSpPr>
          <p:spPr>
            <a:xfrm rot="17914800">
              <a:off x="3601800" y="4003560"/>
              <a:ext cx="609480" cy="456840"/>
            </a:xfrm>
            <a:prstGeom prst="leftArrow">
              <a:avLst>
                <a:gd name="adj1" fmla="val 31250"/>
                <a:gd name="adj2" fmla="val 71573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0"/>
            <p:cNvSpPr/>
            <p:nvPr/>
          </p:nvSpPr>
          <p:spPr>
            <a:xfrm>
              <a:off x="2916360" y="270828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1"/>
            <p:cNvSpPr/>
            <p:nvPr/>
          </p:nvSpPr>
          <p:spPr>
            <a:xfrm rot="13815000">
              <a:off x="5202000" y="4003200"/>
              <a:ext cx="609480" cy="456840"/>
            </a:xfrm>
            <a:prstGeom prst="leftArrow">
              <a:avLst>
                <a:gd name="adj1" fmla="val 31250"/>
                <a:gd name="adj2" fmla="val 71573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Text Box 22"/>
          <p:cNvSpPr/>
          <p:nvPr/>
        </p:nvSpPr>
        <p:spPr>
          <a:xfrm>
            <a:off x="4162680" y="24685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换位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3"/>
          <p:cNvGrpSpPr/>
          <p:nvPr/>
        </p:nvGrpSpPr>
        <p:grpSpPr>
          <a:xfrm>
            <a:off x="6659640" y="2276640"/>
            <a:ext cx="2088720" cy="2088720"/>
            <a:chOff x="6659640" y="2276640"/>
            <a:chExt cx="2088720" cy="2088720"/>
          </a:xfrm>
        </p:grpSpPr>
        <p:sp>
          <p:nvSpPr>
            <p:cNvPr id="132" name="Oval 24"/>
            <p:cNvSpPr/>
            <p:nvPr/>
          </p:nvSpPr>
          <p:spPr>
            <a:xfrm>
              <a:off x="6659640" y="2276640"/>
              <a:ext cx="2088720" cy="2088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6659640" y="2276640"/>
              <a:ext cx="2088720" cy="20887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6797520" y="2412360"/>
              <a:ext cx="1812960" cy="181512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6797520" y="2417040"/>
              <a:ext cx="1812960" cy="181512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6887160" y="2504160"/>
              <a:ext cx="1633320" cy="1633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29"/>
            <p:cNvGrpSpPr/>
            <p:nvPr/>
          </p:nvGrpSpPr>
          <p:grpSpPr>
            <a:xfrm>
              <a:off x="6912720" y="2529720"/>
              <a:ext cx="1582200" cy="1584720"/>
              <a:chOff x="6912720" y="2529720"/>
              <a:chExt cx="1582200" cy="1584720"/>
            </a:xfrm>
          </p:grpSpPr>
          <p:sp>
            <p:nvSpPr>
              <p:cNvPr id="138" name="Oval 30"/>
              <p:cNvSpPr/>
              <p:nvPr/>
            </p:nvSpPr>
            <p:spPr>
              <a:xfrm>
                <a:off x="6912720" y="2529720"/>
                <a:ext cx="1582200" cy="1584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31"/>
              <p:cNvSpPr/>
              <p:nvPr/>
            </p:nvSpPr>
            <p:spPr>
              <a:xfrm>
                <a:off x="6932520" y="2538360"/>
                <a:ext cx="1544400" cy="1545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32"/>
              <p:cNvSpPr/>
              <p:nvPr/>
            </p:nvSpPr>
            <p:spPr>
              <a:xfrm>
                <a:off x="6949080" y="2553480"/>
                <a:ext cx="1468440" cy="144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3"/>
              <p:cNvSpPr/>
              <p:nvPr/>
            </p:nvSpPr>
            <p:spPr>
              <a:xfrm>
                <a:off x="7035120" y="2594160"/>
                <a:ext cx="1305360" cy="117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Text Box 34"/>
          <p:cNvSpPr/>
          <p:nvPr/>
        </p:nvSpPr>
        <p:spPr>
          <a:xfrm>
            <a:off x="7265520" y="285264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理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别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想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35"/>
          <p:cNvGrpSpPr/>
          <p:nvPr/>
        </p:nvGrpSpPr>
        <p:grpSpPr>
          <a:xfrm>
            <a:off x="5219640" y="4508640"/>
            <a:ext cx="1726920" cy="1728360"/>
            <a:chOff x="5219640" y="4508640"/>
            <a:chExt cx="1726920" cy="1728360"/>
          </a:xfrm>
        </p:grpSpPr>
        <p:sp>
          <p:nvSpPr>
            <p:cNvPr id="144" name="Oval 36"/>
            <p:cNvSpPr/>
            <p:nvPr/>
          </p:nvSpPr>
          <p:spPr>
            <a:xfrm>
              <a:off x="5219640" y="4508640"/>
              <a:ext cx="1726920" cy="1728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5219640" y="4508640"/>
              <a:ext cx="1726920" cy="17283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5331240" y="4620240"/>
              <a:ext cx="1503360" cy="150480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5310720" y="4595040"/>
              <a:ext cx="1501200" cy="150516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5413320" y="4697640"/>
              <a:ext cx="1351440" cy="135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5401440" y="4681440"/>
              <a:ext cx="1307880" cy="13086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42"/>
            <p:cNvSpPr/>
            <p:nvPr/>
          </p:nvSpPr>
          <p:spPr>
            <a:xfrm>
              <a:off x="5451120" y="4726440"/>
              <a:ext cx="1277280" cy="1276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3"/>
            <p:cNvSpPr/>
            <p:nvPr/>
          </p:nvSpPr>
          <p:spPr>
            <a:xfrm>
              <a:off x="5466240" y="4739040"/>
              <a:ext cx="1214280" cy="1193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4"/>
            <p:cNvSpPr/>
            <p:nvPr/>
          </p:nvSpPr>
          <p:spPr>
            <a:xfrm>
              <a:off x="5536080" y="4773600"/>
              <a:ext cx="10800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5"/>
            <p:cNvSpPr/>
            <p:nvPr/>
          </p:nvSpPr>
          <p:spPr>
            <a:xfrm>
              <a:off x="5625720" y="5130000"/>
              <a:ext cx="94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想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所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6"/>
          <p:cNvGrpSpPr/>
          <p:nvPr/>
        </p:nvGrpSpPr>
        <p:grpSpPr>
          <a:xfrm>
            <a:off x="1042920" y="2276640"/>
            <a:ext cx="1912680" cy="2015640"/>
            <a:chOff x="1042920" y="2276640"/>
            <a:chExt cx="1912680" cy="2015640"/>
          </a:xfrm>
        </p:grpSpPr>
        <p:sp>
          <p:nvSpPr>
            <p:cNvPr id="155" name="Oval 47"/>
            <p:cNvSpPr/>
            <p:nvPr/>
          </p:nvSpPr>
          <p:spPr>
            <a:xfrm>
              <a:off x="1042920" y="2276640"/>
              <a:ext cx="1912680" cy="20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48"/>
            <p:cNvSpPr/>
            <p:nvPr/>
          </p:nvSpPr>
          <p:spPr>
            <a:xfrm>
              <a:off x="1042920" y="2276640"/>
              <a:ext cx="1912680" cy="201564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49"/>
            <p:cNvSpPr/>
            <p:nvPr/>
          </p:nvSpPr>
          <p:spPr>
            <a:xfrm>
              <a:off x="1167120" y="2407320"/>
              <a:ext cx="1664280" cy="175356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50"/>
            <p:cNvSpPr/>
            <p:nvPr/>
          </p:nvSpPr>
          <p:spPr>
            <a:xfrm>
              <a:off x="1169640" y="2407320"/>
              <a:ext cx="1661760" cy="175356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1"/>
            <p:cNvSpPr/>
            <p:nvPr/>
          </p:nvSpPr>
          <p:spPr>
            <a:xfrm>
              <a:off x="1258200" y="2495880"/>
              <a:ext cx="1495440" cy="1576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1282320" y="2522160"/>
              <a:ext cx="1449360" cy="1526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1300320" y="2531160"/>
              <a:ext cx="1413360" cy="14875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1316160" y="2545200"/>
              <a:ext cx="1344600" cy="1391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1393560" y="2585160"/>
              <a:ext cx="1195920" cy="112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56"/>
          <p:cNvSpPr/>
          <p:nvPr/>
        </p:nvSpPr>
        <p:spPr>
          <a:xfrm>
            <a:off x="1597680" y="27813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站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别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角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57"/>
          <p:cNvGrpSpPr/>
          <p:nvPr/>
        </p:nvGrpSpPr>
        <p:grpSpPr>
          <a:xfrm>
            <a:off x="2411280" y="4581360"/>
            <a:ext cx="1794960" cy="1656720"/>
            <a:chOff x="2411280" y="4581360"/>
            <a:chExt cx="1794960" cy="1656720"/>
          </a:xfrm>
        </p:grpSpPr>
        <p:grpSp>
          <p:nvGrpSpPr>
            <p:cNvPr id="166" name="Group 58"/>
            <p:cNvGrpSpPr/>
            <p:nvPr/>
          </p:nvGrpSpPr>
          <p:grpSpPr>
            <a:xfrm>
              <a:off x="2411280" y="4581360"/>
              <a:ext cx="1794960" cy="1656720"/>
              <a:chOff x="2411280" y="4581360"/>
              <a:chExt cx="1794960" cy="1656720"/>
            </a:xfrm>
          </p:grpSpPr>
          <p:sp>
            <p:nvSpPr>
              <p:cNvPr id="167" name="Oval 59"/>
              <p:cNvSpPr/>
              <p:nvPr/>
            </p:nvSpPr>
            <p:spPr>
              <a:xfrm>
                <a:off x="2411280" y="4581360"/>
                <a:ext cx="1794960" cy="16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60"/>
              <p:cNvSpPr/>
              <p:nvPr/>
            </p:nvSpPr>
            <p:spPr>
              <a:xfrm>
                <a:off x="2411280" y="4581360"/>
                <a:ext cx="1794960" cy="165672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61"/>
              <p:cNvSpPr/>
              <p:nvPr/>
            </p:nvSpPr>
            <p:spPr>
              <a:xfrm>
                <a:off x="2524320" y="4690800"/>
                <a:ext cx="1557360" cy="143892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62"/>
              <p:cNvSpPr/>
              <p:nvPr/>
            </p:nvSpPr>
            <p:spPr>
              <a:xfrm>
                <a:off x="2524320" y="4701600"/>
                <a:ext cx="1557360" cy="143928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63"/>
              <p:cNvSpPr/>
              <p:nvPr/>
            </p:nvSpPr>
            <p:spPr>
              <a:xfrm>
                <a:off x="2601360" y="4772880"/>
                <a:ext cx="1402920" cy="12952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Group 64"/>
              <p:cNvGrpSpPr/>
              <p:nvPr/>
            </p:nvGrpSpPr>
            <p:grpSpPr>
              <a:xfrm>
                <a:off x="2637000" y="4789440"/>
                <a:ext cx="1359720" cy="1256760"/>
                <a:chOff x="2637000" y="4789440"/>
                <a:chExt cx="1359720" cy="1256760"/>
              </a:xfrm>
            </p:grpSpPr>
            <p:sp>
              <p:nvSpPr>
                <p:cNvPr id="173" name="Oval 65"/>
                <p:cNvSpPr/>
                <p:nvPr/>
              </p:nvSpPr>
              <p:spPr>
                <a:xfrm>
                  <a:off x="2637000" y="4789440"/>
                  <a:ext cx="1359720" cy="125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66"/>
                <p:cNvSpPr/>
                <p:nvPr/>
              </p:nvSpPr>
              <p:spPr>
                <a:xfrm>
                  <a:off x="2653920" y="4796280"/>
                  <a:ext cx="1327320" cy="122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67"/>
                <p:cNvSpPr/>
                <p:nvPr/>
              </p:nvSpPr>
              <p:spPr>
                <a:xfrm>
                  <a:off x="2668320" y="4808520"/>
                  <a:ext cx="1261800" cy="114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68"/>
                <p:cNvSpPr/>
                <p:nvPr/>
              </p:nvSpPr>
              <p:spPr>
                <a:xfrm>
                  <a:off x="2742120" y="4840560"/>
                  <a:ext cx="1121760" cy="92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7" name="Text Box 69"/>
            <p:cNvSpPr/>
            <p:nvPr/>
          </p:nvSpPr>
          <p:spPr>
            <a:xfrm>
              <a:off x="2970720" y="518976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我是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我会。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strips dir="r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3"/>
          <p:cNvSpPr/>
          <p:nvPr/>
        </p:nvSpPr>
        <p:spPr>
          <a:xfrm>
            <a:off x="1504800" y="2565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宽容，感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658520" y="335772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理解至上  善待他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1527480" y="4221000"/>
            <a:ext cx="15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人所不欲</a:t>
            </a:r>
            <a:r>
              <a:rPr b="1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,</a:t>
            </a: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勿施于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1585080" y="494172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已所不欲 勿施于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3059280" y="2276640"/>
            <a:ext cx="5825520" cy="3342600"/>
            <a:chOff x="3059280" y="2276640"/>
            <a:chExt cx="5825520" cy="3342600"/>
          </a:xfrm>
        </p:grpSpPr>
        <p:sp>
          <p:nvSpPr>
            <p:cNvPr id="184" name="Freeform 18"/>
            <p:cNvSpPr/>
            <p:nvPr/>
          </p:nvSpPr>
          <p:spPr>
            <a:xfrm>
              <a:off x="8302680" y="2276640"/>
              <a:ext cx="575640" cy="846000"/>
            </a:xfrm>
            <a:custGeom>
              <a:avLst/>
              <a:gdLst>
                <a:gd name="textAreaLeft" fmla="*/ 0 w 575640"/>
                <a:gd name="textAreaRight" fmla="*/ 576000 w 57564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81847"/>
                </a:gs>
                <a:gs pos="50000">
                  <a:srgbClr val="333399"/>
                </a:gs>
                <a:gs pos="100000">
                  <a:srgbClr val="1818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5541840" y="2276640"/>
              <a:ext cx="3342960" cy="541080"/>
            </a:xfrm>
            <a:custGeom>
              <a:avLst/>
              <a:gdLst>
                <a:gd name="textAreaLeft" fmla="*/ 0 w 3342960"/>
                <a:gd name="textAreaRight" fmla="*/ 3343320 w 334296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20"/>
            <p:cNvSpPr/>
            <p:nvPr/>
          </p:nvSpPr>
          <p:spPr>
            <a:xfrm>
              <a:off x="7723080" y="3108240"/>
              <a:ext cx="576000" cy="84096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840960"/>
                <a:gd name="textAreaBottom" fmla="*/ 841320 h 84096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4747"/>
                </a:gs>
                <a:gs pos="50000">
                  <a:srgbClr val="009999"/>
                </a:gs>
                <a:gs pos="100000">
                  <a:srgbClr val="00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1"/>
            <p:cNvSpPr/>
            <p:nvPr/>
          </p:nvSpPr>
          <p:spPr>
            <a:xfrm>
              <a:off x="4711680" y="3108240"/>
              <a:ext cx="3593520" cy="539280"/>
            </a:xfrm>
            <a:custGeom>
              <a:avLst/>
              <a:gdLst>
                <a:gd name="textAreaLeft" fmla="*/ 0 w 3593520"/>
                <a:gd name="textAreaRight" fmla="*/ 3593880 w 359352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7142040" y="3940200"/>
              <a:ext cx="572760" cy="844200"/>
            </a:xfrm>
            <a:custGeom>
              <a:avLst/>
              <a:gdLst>
                <a:gd name="textAreaLeft" fmla="*/ 0 w 572760"/>
                <a:gd name="textAreaRight" fmla="*/ 573120 w 572760"/>
                <a:gd name="textAreaTop" fmla="*/ 0 h 844200"/>
                <a:gd name="textAreaBottom" fmla="*/ 844560 h 84420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50000">
                  <a:srgbClr val="99cc00"/>
                </a:gs>
                <a:gs pos="100000">
                  <a:srgbClr val="47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3"/>
            <p:cNvSpPr/>
            <p:nvPr/>
          </p:nvSpPr>
          <p:spPr>
            <a:xfrm>
              <a:off x="6564240" y="4773600"/>
              <a:ext cx="577440" cy="845640"/>
            </a:xfrm>
            <a:custGeom>
              <a:avLst/>
              <a:gdLst>
                <a:gd name="textAreaLeft" fmla="*/ 0 w 577440"/>
                <a:gd name="textAreaRight" fmla="*/ 577800 w 57744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76869"/>
                </a:gs>
                <a:gs pos="50000">
                  <a:srgbClr val="bbe0e3"/>
                </a:gs>
                <a:gs pos="100000">
                  <a:srgbClr val="5768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4"/>
            <p:cNvSpPr/>
            <p:nvPr/>
          </p:nvSpPr>
          <p:spPr>
            <a:xfrm>
              <a:off x="3060720" y="4778280"/>
              <a:ext cx="4080960" cy="539280"/>
            </a:xfrm>
            <a:custGeom>
              <a:avLst/>
              <a:gdLst>
                <a:gd name="textAreaLeft" fmla="*/ 0 w 4080960"/>
                <a:gd name="textAreaRight" fmla="*/ 4081320 w 4080960"/>
                <a:gd name="textAreaTop" fmla="*/ 0 h 539280"/>
                <a:gd name="textAreaBottom" fmla="*/ 539640 h 53928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5"/>
            <p:cNvSpPr/>
            <p:nvPr/>
          </p:nvSpPr>
          <p:spPr>
            <a:xfrm>
              <a:off x="3652920" y="2430360"/>
              <a:ext cx="1837800" cy="2722320"/>
            </a:xfrm>
            <a:custGeom>
              <a:avLst/>
              <a:gdLst>
                <a:gd name="textAreaLeft" fmla="*/ 0 w 1837800"/>
                <a:gd name="textAreaRight" fmla="*/ 1838160 w 1837800"/>
                <a:gd name="textAreaTop" fmla="*/ 0 h 2722320"/>
                <a:gd name="textAreaBottom" fmla="*/ 2722680 h 272232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6"/>
            <p:cNvSpPr/>
            <p:nvPr/>
          </p:nvSpPr>
          <p:spPr>
            <a:xfrm>
              <a:off x="5548320" y="2817720"/>
              <a:ext cx="2766600" cy="304560"/>
            </a:xfrm>
            <a:prstGeom prst="rect">
              <a:avLst/>
            </a:prstGeom>
            <a:gradFill rotWithShape="0">
              <a:gsLst>
                <a:gs pos="0">
                  <a:srgbClr val="25256f"/>
                </a:gs>
                <a:gs pos="50000">
                  <a:srgbClr val="333399"/>
                </a:gs>
                <a:gs pos="100000">
                  <a:srgbClr val="2525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美好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7"/>
            <p:cNvSpPr/>
            <p:nvPr/>
          </p:nvSpPr>
          <p:spPr>
            <a:xfrm>
              <a:off x="4713120" y="3647880"/>
              <a:ext cx="3016080" cy="298080"/>
            </a:xfrm>
            <a:prstGeom prst="rect">
              <a:avLst/>
            </a:prstGeom>
            <a:gradFill rotWithShape="0">
              <a:gsLst>
                <a:gs pos="0">
                  <a:srgbClr val="006f6f"/>
                </a:gs>
                <a:gs pos="50000">
                  <a:srgbClr val="009999"/>
                </a:gs>
                <a:gs pos="100000">
                  <a:srgbClr val="006f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升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8"/>
            <p:cNvSpPr/>
            <p:nvPr/>
          </p:nvSpPr>
          <p:spPr>
            <a:xfrm>
              <a:off x="3887640" y="3940200"/>
              <a:ext cx="3833640" cy="543960"/>
            </a:xfrm>
            <a:custGeom>
              <a:avLst/>
              <a:gdLst>
                <a:gd name="textAreaLeft" fmla="*/ 0 w 3833640"/>
                <a:gd name="textAreaRight" fmla="*/ 3834000 w 3833640"/>
                <a:gd name="textAreaTop" fmla="*/ 0 h 543960"/>
                <a:gd name="textAreaBottom" fmla="*/ 544320 h 54396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3890880" y="4483080"/>
              <a:ext cx="3263400" cy="298080"/>
            </a:xfrm>
            <a:prstGeom prst="rect">
              <a:avLst/>
            </a:prstGeom>
            <a:gradFill rotWithShape="0">
              <a:gsLst>
                <a:gs pos="0">
                  <a:srgbClr val="6f9400"/>
                </a:gs>
                <a:gs pos="50000">
                  <a:srgbClr val="99cc00"/>
                </a:gs>
                <a:gs pos="100000">
                  <a:srgbClr val="6f9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0"/>
            <p:cNvSpPr/>
            <p:nvPr/>
          </p:nvSpPr>
          <p:spPr>
            <a:xfrm>
              <a:off x="3059280" y="531972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88a3a5"/>
                </a:gs>
                <a:gs pos="50000">
                  <a:srgbClr val="bbe0e3"/>
                </a:gs>
                <a:gs pos="100000">
                  <a:srgbClr val="88a3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Verdana"/>
                  <a:ea typeface="微软雅黑"/>
                </a:rPr>
                <a:t>基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9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1295280" y="1523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5"/>
          <p:cNvGrpSpPr/>
          <p:nvPr/>
        </p:nvGrpSpPr>
        <p:grpSpPr>
          <a:xfrm>
            <a:off x="1219320" y="1676520"/>
            <a:ext cx="5181480" cy="9109080"/>
            <a:chOff x="1219320" y="1676520"/>
            <a:chExt cx="5181480" cy="9109080"/>
          </a:xfrm>
        </p:grpSpPr>
        <p:sp>
          <p:nvSpPr>
            <p:cNvPr id="202" name="Text Box 8"/>
            <p:cNvSpPr/>
            <p:nvPr/>
          </p:nvSpPr>
          <p:spPr>
            <a:xfrm>
              <a:off x="1295280" y="1676520"/>
              <a:ext cx="46954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9"/>
            <p:cNvSpPr/>
            <p:nvPr/>
          </p:nvSpPr>
          <p:spPr>
            <a:xfrm>
              <a:off x="1219320" y="7737480"/>
              <a:ext cx="518148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WordArt 10"/>
          <p:cNvSpPr txBox="1"/>
          <p:nvPr/>
        </p:nvSpPr>
        <p:spPr>
          <a:xfrm>
            <a:off x="2987640" y="2637000"/>
            <a:ext cx="36576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33d73"/>
                </a:solidFill>
                <a:latin typeface="宋体"/>
              </a:rPr>
              <a:t>谢谢！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733d73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3205080" cy="2971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143000" y="1146240"/>
            <a:ext cx="6786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换个角度，世界大不一样 </a:t>
            </a:r>
            <a:br>
              <a:rPr sz="24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2060"/>
                </a:solidFill>
                <a:latin typeface="Arial"/>
              </a:rPr>
              <a:t>首先看一下这幅图，你看到的是什么？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矩形 9" descr=""/>
          <p:cNvPicPr/>
          <p:nvPr/>
        </p:nvPicPr>
        <p:blipFill>
          <a:blip r:embed="rId3"/>
          <a:stretch/>
        </p:blipFill>
        <p:spPr>
          <a:xfrm>
            <a:off x="219240" y="133200"/>
            <a:ext cx="3902040" cy="1030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该资料由书利华教育网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uLiHua.n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为您整理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5817bc27d4c19380ef477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5"/>
          <p:cNvSpPr txBox="1"/>
          <p:nvPr/>
        </p:nvSpPr>
        <p:spPr>
          <a:xfrm>
            <a:off x="611280" y="333360"/>
            <a:ext cx="6475320" cy="14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ea"/>
              </a:rPr>
              <a:t>椭圆？五角星？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1371600" y="507960"/>
            <a:ext cx="63244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1" lang="zh-CN" sz="2100" spc="-1" strike="noStrike">
                <a:solidFill>
                  <a:srgbClr val="009900"/>
                </a:solidFill>
                <a:latin typeface="Arial"/>
              </a:rPr>
              <a:t>下面一幅图，名字叫做“天使与魔鬼”，你看到的是天使还是魔鬼呢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957320" y="1762200"/>
            <a:ext cx="5302440" cy="4956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2920" y="1428840"/>
            <a:ext cx="4357800" cy="4357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685800" y="61920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微软雅黑"/>
                <a:ea typeface="微软雅黑"/>
              </a:rPr>
              <a:t>再来看看这幅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928880" y="5929200"/>
            <a:ext cx="50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巫还是少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4495680" y="143352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785880" y="3286080"/>
            <a:ext cx="3429000" cy="3265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500040" y="1727280"/>
            <a:ext cx="84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也许你会说，很明显嘛，是只青蛙，那么现在请你换个角度看一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你发现了什么其他的东西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2571840" y="86364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仿宋"/>
                <a:ea typeface="仿宋"/>
              </a:rPr>
              <a:t>再来看下一幅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3"/>
          <a:stretch/>
        </p:blipFill>
        <p:spPr>
          <a:xfrm>
            <a:off x="4876920" y="3276720"/>
            <a:ext cx="3429000" cy="3265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85800"/>
            <a:ext cx="87631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4920" y="609480"/>
            <a:ext cx="853416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同一件事物从不同的角度去看，得到的结果也不相同，我们不能只认定自己的立场是对的，应该善于站在他人的立场考虑问题，全面地分析原因，认识到别人的难处，消除矛盾，化解隔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建立正确的人生观，看问题要多角度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宋体"/>
              </a:rPr>
              <a:t>班会环节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8072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小小故事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蕴含大智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2:52:03Z</dcterms:created>
  <dc:creator>lenovo</dc:creator>
  <dc:description/>
  <dc:language>en-US</dc:language>
  <cp:lastModifiedBy>lenovo</cp:lastModifiedBy>
  <dcterms:modified xsi:type="dcterms:W3CDTF">2014-04-15T07:22:12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